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C98ADDB-3E7D-4EA1-81CC-81C0A5C9EB2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1541ACB0-C663-4041-BE43-C40D80C0037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BE739E1B-7FE4-421E-B878-F36913F5F7D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160088C1-05C3-4597-A958-07353157B86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9762C943-5D1C-491C-A363-9C60FBFDF2A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C07625-EE65-4158-9F86-4ACCBBE1377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6350499D-DB1F-4517-AACB-705EF8CB002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6E4A1518-E8F9-456F-9F5F-DC842B84F15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2C40DA95-C54B-4BB6-8306-6487D1D0FD2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B033997-3D65-49FB-A71A-B3E5CEED291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D174636-8AC3-45FD-A010-C887F1C82F4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A63E2295-11A8-48C9-BC85-177FD541F62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D6177F-F2CE-488F-853D-9B8230704B8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FDD9248-870C-4708-9CDF-0B3804AC29BE}"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6525C59-32F4-4AAE-8466-EBEF5FD836BD}"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21E2AFA-799B-4D9D-9B02-0F9BF0C460C5}"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B2FE20B-2813-4860-9B88-357C19E9FEE1}"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C5F21F-EDD5-4A85-8E13-6AEAD4F9F918}"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4EB625-A201-4676-8D6F-B9123EC65F9D}"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678D8D6-DDF3-467C-A132-B60F2D845C7A}"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8C1C21-CDF8-42CB-80D8-919689A989E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267694-15C2-480F-81C0-AEBCE3BAD95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AD05529-49CA-4FEE-8303-8E1136A8DE3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B115AE-A776-4A34-B0C6-FB8648B1DE3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5389528A-C159-406B-BC51-81CD2E59887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4442E9D-EFA0-4E49-BC37-EA6DD6419DD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DDD697E-34F9-4B04-AE0C-E74F4C477AD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963D02-B14F-4FE0-B50F-12D5DB65C8B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1867C8F-4CCB-4E2F-9ADC-66390AAEA3C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CA5D7A7-1926-4E3B-9F7A-BB55B739964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BB7D5C-D78E-454C-B1C6-472F1537F23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5AE29D-16D3-489E-AE94-3CFBAF09A63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57E764-71FF-4855-B765-1530A5D0D6C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C392BD1-326A-48FC-AD96-80BD23AB717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8DE5E2-9067-457C-A9DD-EFE7D13D5B0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82F25B6-4DA6-478C-9A71-1F108BE74E0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340CB51-78E0-44A8-8F46-43B45E811CE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278E04-117E-42CF-A96B-921998056E3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D07B04C-6E64-45E1-A2C6-C7D932DCA14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B603F90-E875-485D-9BB4-3A2D52AE2D1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3FEC3E-1F2A-4BBD-8C52-7D016F7669D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11C9D91-CB14-44B1-94F4-A136C4FF6BB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CEC585-EAD4-4AE1-9773-19D327A7448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B168E8D-D1D6-4017-B7EB-AA102E183C5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957529-6A4D-4F62-91FC-7A3484DFEC3B}"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B68832C-584B-4272-9F2D-8C199B2583B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8BDE89-08FD-485C-9B43-36500BFA580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528B16C-B82B-4930-9B4A-7BE3A5FBE8F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AF66F6-5CB0-4FC3-938B-95B9B5B99F0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497EA1-08C0-4DB8-AAB4-D0456FA44490}"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52B7C169-EAF6-499C-B50B-41ABD828C4F8}"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36CAEF-F714-4046-AFF2-9E7FC17A8B98}"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5AC93A-D06B-43DF-86D5-E6A900076C25}"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399450-CC7E-420A-90FD-D1CF027DDBA6}"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33055A-EE25-4E99-A334-80BF6879DD9E}"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F7FEA1D-7247-4309-8105-17F189CF9182}"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D1A4FC-FB81-478E-8394-681B7435803B}"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5BBD03-B57D-49B0-845B-8448506F8527}"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666A6D9-E414-4586-A734-93750658F1EE}"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AC94C3-BE01-4477-8FBB-695F4A71CB88}"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36B34994-B939-4755-B278-EFDA6ACE5154}"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DB275E3-9201-4780-993A-748E9C71AF3B}"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E47875D-EC43-4DAA-8D55-60CFEEC33315}"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7575F6-184B-488A-A08B-CBFC283147E2}"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C5234E-3B17-4E7F-8B54-2EFB084781C5}"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B7F6D70-0EB1-4900-8EE8-530BF17E2F07}"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FFDE49-63F4-404F-90EE-D093953F70E5}"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DBAB93-DA5F-4B3C-AB84-CE4B5157D22D}"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3643DC0-762F-4A02-B071-E6F7F78FD253}"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E4BB75-BD25-4462-BCF3-2DEC56E50B89}"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28F1DE-E157-4ADD-81B5-B564F670B7D5}"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89B5707E-A9A3-4316-9656-07D5C1B3146C}"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C587479-5E32-46A2-945B-E8FBB5B9143B}"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9C2086-9AC8-4872-871D-BDE94BDC9965}"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9FBF843-06A4-47AD-AC06-8E3B938789EB}"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4F2640-2C93-4DD9-B217-42E941A8AF93}"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07DFB68-AB8F-4DF3-BFBA-03FAA35AE055}"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150CFD-4DDF-4D21-AA9D-3F320BF0DB31}"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33A04D-AAFF-45DA-B85E-0B70376F351F}"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8A0D87C-CD62-41C1-B2D1-4D58BA0A0501}"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F79308D-8A82-40A3-854A-54C7477D5C13}"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006322-D71A-479D-9551-D0DBC0A83760}"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963975-8A50-4550-8A05-244B7710EC44}"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E13B92B-844D-472E-AF24-3D4271C37D7D}"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6563FF-6F1E-49AF-862D-C003DACF8306}"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19245F8-7868-4C95-8DBD-E7AA21E27A57}"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8B1B15B-50E2-4786-9A98-CF42EB7600F2}"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02A3C65-4497-4114-B126-319375167FB5}"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58228A5-817A-4251-BFE7-E257E0E7E0CB}"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5B0877-0A37-4EFD-BFFA-CFB7345C6491}"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B25CF23-F6EE-4701-BC37-BB9AB93D2A07}"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28236C-7E65-4078-8626-1DC9A7176F7B}"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81EA521-20B0-4F9D-9029-7B657E5173D7}"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731F4F-EAB6-4BDA-BCDC-151A0EC3FFFD}"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7D46D8-A240-4167-BC78-049682D89B10}"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162EB5-800E-4919-AC45-96E9D298EC53}"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E47A8C-930C-40F0-A4D3-0DA2448FB128}"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04D5019-2FC6-479F-8E4F-C5744DB38B49}"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E612F2-8261-4FA2-A2CB-4150676A42EC}"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D51F2B-F626-43C0-A496-86A954CFC2C5}"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803D328-0391-4873-8BAC-2B95673C5DE4}"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CF60E0-8327-4C71-A192-5A631C9BA6B3}"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57D2262-75EC-412A-9CA9-84F6D4911581}"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9382B5-0207-41F7-965C-ED5FA988A9D8}"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636E569-178C-4426-A714-7BDC4E1B97F6}"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9ED3B3-3F4F-47DA-87CC-EC7AE9C765AE}"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0304F9-9C16-4A20-9300-1C6BF7F8886D}"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DB9C092-B195-4B98-AF08-85D8A3A250C3}"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A62D0A-3779-4138-B1CA-5EF8FD786BB1}"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D6A065E-428F-4E05-B092-FE681E304620}"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1668D6-A694-4909-9F9D-07FB5AC42E44}"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2DB1425-7BD6-48FA-9DB2-DE356493C1D5}"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EF88A9-7FB2-4E5F-8BBC-25CCED070A92}"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0EB8E9-D154-4E59-9D4F-8CE31BB0B2FD}"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C27E277-E5A4-4980-BFC0-B1ECA92F4CE9}"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B89E6C-0444-478E-94C2-3C888A792140}"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1402B16-559D-416F-B300-400D0023DE4A}"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